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492280" y="1143000"/>
            <a:ext cx="4159440" cy="40212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0" y="5765760"/>
            <a:ext cx="9144000" cy="1092240"/>
            <a:chOff x="0" y="5765760"/>
            <a:chExt cx="9144000" cy="1092240"/>
          </a:xfrm>
        </p:grpSpPr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5765760"/>
              <a:ext cx="91440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rcRect l="0" t="11091" r="0" b="12710"/>
            <a:stretch/>
          </p:blipFill>
          <p:spPr>
            <a:xfrm>
              <a:off x="7162920" y="6365880"/>
              <a:ext cx="190476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37440" y="6308640"/>
            <a:ext cx="2205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BenQ Siemens</a:t>
            </a: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erry</a:t>
            </a: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 Project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Monika Reiß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Page: </a:t>
            </a:r>
            <a:fld id="{03B67C36-9831-4CAE-8F9C-E17346B082FF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; 24/01/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65080" y="6597720"/>
            <a:ext cx="247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dafone Group – strictly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92280" y="1143000"/>
            <a:ext cx="4159440" cy="4021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5765760"/>
            <a:ext cx="9144000" cy="1092240"/>
            <a:chOff x="0" y="5765760"/>
            <a:chExt cx="9144000" cy="109224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5765760"/>
              <a:ext cx="91440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rcRect l="0" t="11091" r="0" b="12710"/>
            <a:stretch/>
          </p:blipFill>
          <p:spPr>
            <a:xfrm>
              <a:off x="7162920" y="6365880"/>
              <a:ext cx="1904760" cy="41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enQ Siemens Jerry –Org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9:50:07Z</dcterms:created>
  <dc:creator/>
  <dc:description>Terminal Programme Management 30.11.2004</dc:description>
  <dc:language>en-US</dc:language>
  <cp:lastModifiedBy>bartlt</cp:lastModifiedBy>
  <dcterms:modified xsi:type="dcterms:W3CDTF">2006-02-21T14:26:38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93707033</vt:r8>
  </property>
  <property fmtid="{D5CDD505-2E9C-101B-9397-08002B2CF9AE}" pid="3" name="_AuthorEmail">
    <vt:lpwstr>Thomas.Bartl@BenQ.com</vt:lpwstr>
  </property>
  <property fmtid="{D5CDD505-2E9C-101B-9397-08002B2CF9AE}" pid="4" name="_AuthorEmailDisplayName">
    <vt:lpwstr>Thomas Bartl</vt:lpwstr>
  </property>
  <property fmtid="{D5CDD505-2E9C-101B-9397-08002B2CF9AE}" pid="5" name="_EmailSubject">
    <vt:lpwstr>060221_BenQ Siemens Jerry - Org Chart.ppt</vt:lpwstr>
  </property>
  <property fmtid="{D5CDD505-2E9C-101B-9397-08002B2CF9AE}" pid="6" name="_NewReviewCycle">
    <vt:lpwstr/>
  </property>
  <property fmtid="{D5CDD505-2E9C-101B-9397-08002B2CF9AE}" pid="7" name="_PreviousAdHocReviewCycleID">
    <vt:r8>1688168020</vt:r8>
  </property>
</Properties>
</file>